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0F7-61E7-469A-97C0-C1973AD8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BB1-67B0-49A8-B45B-2836A6794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FF2-37B9-441F-A890-FB5EA97D2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A480-46D1-4595-9374-EB339D8E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52A-49FE-4B34-8E81-3554E8F6A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51E-2B01-4ADD-8373-DAEDD2A8B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29BF-BD10-4311-BF0B-098971623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9FA-74D8-49DB-A308-4912FCCC8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3B0-CE4B-4251-8DC2-4CA431835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9A3-BAD2-4BF0-9D72-FAC396AE0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E847-5F1D-4E06-A404-4148E0DA5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3CBE-9346-4AA2-AAD1-BE1F7B59F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80D-9AA9-4547-BC7F-ACA93F0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63E-5EEF-4223-80A7-9788EDC2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77A-A3E3-41C4-97B9-1FF387C6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1A4-3F58-4711-B0D8-670A1940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37D-015C-44BD-B6FE-57D358E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275-6B7F-4516-BF4F-FFEF310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39E-4DEA-49D3-A4AA-45329D44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A0A-8912-4BA9-9B4B-8F7CC896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B98-C648-4297-913F-0ECE8962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25F-E03D-43C6-B7D2-DA2789F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88D-2CA9-441E-9464-80BE4BA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CBA-109D-4520-983A-0F3BA77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491-BA71-49A2-ABB7-01DC1A929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et a Job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Portfolio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gie Sw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Goals for my stud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practice real world skills in the target langu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prepare for the global society of the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entury by utilizing technology and employing a second language to reach a personal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est for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comes a time when all young people have to take that leap into adulthood. In this unit students will prepare for this monumental dive by going through the process of getting a job. They will choose a career, research key information about the career, do a job search for openings in the geographic area of their choice, write a letter of application and a résumé, schedule an interview, and go through a formal intervie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future ho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reer do you want to pursu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obtain a job in this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ducation and/or training are required for this care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search for jobs on the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a letter of ap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write a résum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are typically asked in a job inter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ginia S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II.2  The student will demonstrate skills necessary to initiate, sustain, and close oral and written exchanges in Spanish, applying familiar vocabulary and structures to new sit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Participate in sustained exchanges that reflect past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, and futur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Exchange detailed information on familiar topics vi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sations, notes, letters, or e-m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Use paraphrasing, circumlocution, and nonverb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s to convey and comprehend message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-appropriate Span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, Media and Technology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T (Information, Communications and Technology)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echnology as a tool to research, organize, evaluate and communicate information, and the possession of a fundamental understanding of the ethical/legal issues surrounding the access and use of inform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and Career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and Account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ing and meeting high standards and goals for delivering quality work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ng diligence and a positive work ethic (e.g., being punctual and reliabl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goals for this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ways to show my students a personal connection between what they are learning and their personal fu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use technology to create more interest in classroom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earn more about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Skills and how to incorporate them into my unit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04:01Z</dcterms:created>
  <dc:creator>mswanger</dc:creator>
  <dc:description/>
  <dc:language>en-US</dc:language>
  <cp:lastModifiedBy>mswanger</cp:lastModifiedBy>
  <dcterms:modified xsi:type="dcterms:W3CDTF">2009-04-17T22:45:57Z</dcterms:modified>
  <cp:revision>21</cp:revision>
  <dc:subject/>
  <dc:title>Intel Essentials</dc:title>
</cp:coreProperties>
</file>